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889-2B1C-4D16-8902-E23E088B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C5F-A2EC-414D-A2E5-5191CCA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537-0E6E-4C51-A327-F4056547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A42-D4F6-4734-89E1-FDB9C5AA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C9B3-3742-4A2C-83FC-86A5D012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CA95-9775-4413-BCA5-A73A1B9D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E3B2-BA93-448B-AC8C-79DE32F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4D4A-EB2D-4D18-9E86-0EA123B0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6BB0-EBC4-4AAC-9C04-3098DF51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405E-363C-4A6A-969F-44129A5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F808-9F60-45AF-8C3B-F765D07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293-9EFA-4FD8-8AAD-08BA395E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E984-9F1A-484A-8CD8-C001540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7781-69ED-4FF3-B6F7-0B09903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7D5-EFB3-45E8-9A8C-FB12B82D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F6F1-5343-4419-AEA2-FE219CDE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62B8-BF0E-456C-987D-3F303D94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D3A-40AE-4876-B4E4-7A106B50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85F-010D-48BD-9327-FE4EF010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CB-D398-499C-AF26-05B78C5A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AD8-0D67-4D70-9CEA-04D844C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4EA-6BAD-41B4-B1C9-3388A07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D70-A749-4816-A019-DF96AAF8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7DB-9968-4453-8933-DB5A111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C27-7377-4F10-82E5-99EC88B9F38D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7F88-AECA-4609-9690-92BF9C28DD93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9EB-947B-45F4-95F3-06BEA9EE6E1A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336-3BC4-49C7-8744-C5F0F46A6E4C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180-67D5-4421-B54E-CD9E00CB6D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F8C541-677B-469E-A870-05EED6877571}" type="datetime3">
              <a:rPr lang="en-US"/>
              <a:t>July 31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866-57AC-4B2E-AB80-76F2865BC1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6F25D-8545-4DB7-AD7D-CE7A20EDEB8D}" type="datetime3">
              <a:rPr lang="en-US"/>
              <a:t>July 31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055-8415-457E-9151-97504C8AED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329E0-3C08-4D39-AD13-9BE68ECB68E2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E74-CD2E-4680-9D4C-3AA951481A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182F8-BF59-4479-8C0B-AFE8B8BA4A7E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567-5854-4156-A51B-49120DAC4D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F5001-FDC5-4218-917E-C269E6F1F4E7}" type="datetime3">
              <a:rPr lang="en-US"/>
              <a:t>July 31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D5A-02FC-4D5F-8F6F-6928E4F5A0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70CBF-A8E8-45AC-8125-31A77127A5A6}" type="datetime3">
              <a:rPr lang="en-US"/>
              <a:t>July 31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812-3220-4326-96BE-B041408D87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C825A-24F8-46FC-8785-4A6F1A8D1C6F}" type="datetime3">
              <a:rPr lang="en-US"/>
              <a:t>July 31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60F-B609-42E2-98AA-33BF679E80E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509B4-EA42-4D4E-A8A8-E0C95BF74B77}" type="datetime3">
              <a:rPr lang="en-US"/>
              <a:t>July 31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